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44C8-16A0-4D68-8A62-5BF4C758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C02-67E1-4102-AD6F-E2DBAE92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83D-A8FF-4764-B3CD-C4CCE4ED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5AA-DE52-44D0-B6BB-4017803E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EFC-7128-485A-9C1E-D8AB2F0B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85E-127F-4C2D-A8D3-96239A16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F14-4241-4A48-822B-A5011F57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0FC-BE0D-4677-A57A-45155BF9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4A6-68D4-406C-9F75-2B2F3BF6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A32D-4B4A-44DD-B35F-2489BD87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0A5-03C2-4C61-B23E-57FD32C6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BFD-C225-4585-B103-29D537DF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0A1F-D823-4483-95F8-EF53C3754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7 Príď, Duchu Svät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Duchu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je srdce zm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prav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ou mocne zahor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uč ma slúžiť blížny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 sebect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aj viac pok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hosťom moj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 blízko mň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o mnou bdieť ráč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oji posilňu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trpezliv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čase súž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ver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voju pomoc upevňu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úzkostí ma môže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iť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ochýb chmúrny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oreň vytrhnú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a teba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prosbou obraci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počuješ 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sa spoľah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hojné dávaš dary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tvojím sľubom pev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iť chc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podľa mie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ej štedr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vocie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nášať vždy smi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5T11:12:14Z</dcterms:modified>
  <cp:revision>20</cp:revision>
  <dc:subject/>
  <dc:title>Je veľký náš Pán, on slávy je Kráľ Nech do všetkých strán  spev vrúcnych znie chvál.</dc:title>
</cp:coreProperties>
</file>